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816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5440" y="0"/>
            <a:ext cx="30085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0" y="8742240"/>
            <a:ext cx="30081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92544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E51-9D89-4F19-9663-2E00C6A7E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62080" y="700560"/>
            <a:ext cx="4609080" cy="34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973D217-A9A8-4830-96A3-F5B19C64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659480" cy="3495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1E5A-59BC-46DD-9A00-7DEEECC9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F53-7380-4CDD-8309-C60D3F83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072-2E8D-4DED-9D94-87866305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480" y="4277880"/>
            <a:ext cx="50770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CAFA-5E28-49D2-8A80-BDDA9ECCD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BAD-30AA-4C93-8289-60CB76A2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5560" y="4410000"/>
            <a:ext cx="50832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2E96-E273-4F64-AA84-15AA9572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0F27-7E94-46B6-9CD8-275E42FF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9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ECF-C5E0-46DB-AC7B-7AAFA8D85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7DA-7CFC-435C-BCED-0AB58E815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8A89-BB10-4BE5-A707-041CF6B9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0C5-A8B7-4CAC-868D-5C9B167F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5F9-2E68-45BA-88E0-F6A2790A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is slide to wrap-up the brainstorm acti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enefits: data for school improvement planning, grade-level team meetings, parental support (ONLY SHARE INDIVIDUAL REPORT), one-on-one conferencing with students, goal setting, celebrating growth, and easing temperament of students and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 to Train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eed to tailor based on time. May want audience to read and absor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CD9-46BE-49AF-B9EF-7082C6B1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1125-8CBC-4FFD-BEE4-AB445D52D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1BCA-DFA4-4BDE-B0A4-458905EA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F6B1-B8AB-428F-914D-FBCE82E6A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E4F-F976-4924-A791-53B0C371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BAE-D89D-4584-9036-4A6C5D6A8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84D-1BF0-4CCD-9471-2EBFE504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A643-4FEC-4D7A-9683-A6DC2C3D4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560" y="4409640"/>
            <a:ext cx="508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25800" y="874224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FF8-48AE-4034-8228-CC4A0D5B9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71F-5904-4E39-94DE-160219B9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E91-1728-41F0-BF85-FC3D27F7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0FD-3613-4A01-A606-23456DC0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8A2-B236-4DBD-B826-6301AEC3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709-B4B0-4AEA-AAEF-A7C4AE42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A5D-B80C-4D5F-AD18-8E394C3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0FD-6C98-49DE-8750-28F1A83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BEE-878A-4765-85D3-945C55DE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EDD-8D0E-480D-9CBB-F5A5FE6C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B88-9BEB-47D0-B3A9-7FE67A5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6FB-D253-4820-997C-C77CA8F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27C-576B-4F24-840A-1E32A25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087-2119-49B7-88E1-89A8004B51F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C549-B88E-42AC-B2D9-A1D0ACB68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6781680" y="533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0" y="-9360"/>
            <a:ext cx="6670800" cy="533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52"/>
          <p:cNvSpPr/>
          <p:nvPr/>
        </p:nvSpPr>
        <p:spPr>
          <a:xfrm>
            <a:off x="276120" y="144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room Diagnostic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Object 58" descr=""/>
          <p:cNvPicPr/>
          <p:nvPr/>
        </p:nvPicPr>
        <p:blipFill>
          <a:blip r:embed="rId2"/>
          <a:stretch/>
        </p:blipFill>
        <p:spPr>
          <a:xfrm>
            <a:off x="6918480" y="0"/>
            <a:ext cx="213012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920880" y="1446120"/>
            <a:ext cx="73324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General Overview of the C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ebruary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43000" y="58420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Tom Corbett,  </a:t>
            </a:r>
            <a:br>
              <a:rPr sz="1800"/>
            </a:b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Gover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89000" y="1436760"/>
            <a:ext cx="6966000" cy="16081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27A-2DA2-4C9D-970A-F05E2AE68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36248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Ronald J. Tomali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 </a:t>
            </a:r>
            <a:r>
              <a:rPr b="1" lang="en-US" sz="1800" spc="-1" strike="noStrike">
                <a:solidFill>
                  <a:srgbClr val="214a82"/>
                </a:solidFill>
                <a:latin typeface="Felbridge"/>
              </a:rPr>
              <a:t>Secretary of Education - Desig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Learning Prog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are they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chors and Eligible Content provide information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udents should know and be able to do at a given grade/cou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Progressions show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arning within a diagnostic category, based upon the Assessment Anchors and Eligible Content, develops across grades; not just within a given grade/cou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DBEF-92B8-412D-A4BB-BCB6360AD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DT Learning Progressio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2800" y="1831680"/>
            <a:ext cx="833616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T includes a report tied directly to Learning Progressio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repor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scrollable vertical map showing how learning progresses for each diagnostic category across grades and/or cour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teachers plan targeted instruction by providing a visual snapshot of how the student is progress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information as to whether the student i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ill struggling to master foundational content and/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ving forward with more advanced content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1B6-F5BE-4E14-8491-E01F400E4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9004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DT Learning Progressio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report al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s exactly what Assessment Anchor and Eligible Content is measured by each CDT item or items the student answered correctly or incorrectl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sample item of average difficulty for each Assessment Anchor as defined by the Eligible Cont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teachers with the most efficient and direct way to find units and lesson plans in SAS directly tied to Eligible Con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s directly to additional materials and resources in S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3E8E-3C11-4E4F-960E-A3CFB8C42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784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Learning Progression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E66-8459-4578-9662-FCAD646F2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1534" t="976" r="0" b="0"/>
          <a:stretch/>
        </p:blipFill>
        <p:spPr>
          <a:xfrm>
            <a:off x="1886040" y="1351080"/>
            <a:ext cx="4979880" cy="47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Rounded Rectangular Callout 11"/>
          <p:cNvSpPr/>
          <p:nvPr/>
        </p:nvSpPr>
        <p:spPr>
          <a:xfrm>
            <a:off x="220680" y="2009880"/>
            <a:ext cx="2854440" cy="1065240"/>
          </a:xfrm>
          <a:prstGeom prst="wedgeRoundRectCallout">
            <a:avLst>
              <a:gd name="adj1" fmla="val 72430"/>
              <a:gd name="adj2" fmla="val 173884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vering over a dot will show the eligible content. Clicking on Materials and Resources will link to SAS, or clicking on Sample Item will allow a view  of the sample item for the Eligible Content Code se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ular Callout 12"/>
          <p:cNvSpPr/>
          <p:nvPr/>
        </p:nvSpPr>
        <p:spPr>
          <a:xfrm>
            <a:off x="6829560" y="2470320"/>
            <a:ext cx="1677960" cy="1012680"/>
          </a:xfrm>
          <a:prstGeom prst="wedgeRoundRectCallout">
            <a:avLst>
              <a:gd name="adj1" fmla="val -72837"/>
              <a:gd name="adj2" fmla="val 197000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een and red dots indicate that the student received items for the eligible 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ounded Rectangular Callout 13"/>
          <p:cNvSpPr/>
          <p:nvPr/>
        </p:nvSpPr>
        <p:spPr>
          <a:xfrm>
            <a:off x="7567560" y="5443560"/>
            <a:ext cx="1015920" cy="531720"/>
          </a:xfrm>
          <a:prstGeom prst="wedgeRoundRectCallout">
            <a:avLst>
              <a:gd name="adj1" fmla="val -176064"/>
              <a:gd name="adj2" fmla="val 3271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ap 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4F6-2330-4AC9-B159-4732A1C4B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982800" y="1600200"/>
            <a:ext cx="717840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</p:spPr>
      </p:pic>
      <p:sp>
        <p:nvSpPr>
          <p:cNvPr id="150" name="Rounded Rectangular Callout 6"/>
          <p:cNvSpPr/>
          <p:nvPr/>
        </p:nvSpPr>
        <p:spPr>
          <a:xfrm>
            <a:off x="5232240" y="1720800"/>
            <a:ext cx="1845000" cy="549360"/>
          </a:xfrm>
          <a:prstGeom prst="wedgeRoundRectCallout">
            <a:avLst>
              <a:gd name="adj1" fmla="val -125185"/>
              <a:gd name="adj2" fmla="val 129962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ach white dot represents a student‘s sco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ounded Rectangular Callout 7"/>
          <p:cNvSpPr/>
          <p:nvPr/>
        </p:nvSpPr>
        <p:spPr>
          <a:xfrm>
            <a:off x="4954680" y="3355920"/>
            <a:ext cx="2955960" cy="716040"/>
          </a:xfrm>
          <a:prstGeom prst="wedgeRoundRectCallout">
            <a:avLst>
              <a:gd name="adj1" fmla="val -86300"/>
              <a:gd name="adj2" fmla="val 11770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ving from red to blue quickly provides information on a group’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reas of need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trengths to build 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ounded Rectangular Callout 8"/>
          <p:cNvSpPr/>
          <p:nvPr/>
        </p:nvSpPr>
        <p:spPr>
          <a:xfrm>
            <a:off x="5051520" y="4452840"/>
            <a:ext cx="2222280" cy="676440"/>
          </a:xfrm>
          <a:prstGeom prst="wedgeRoundRectCallout">
            <a:avLst>
              <a:gd name="adj1" fmla="val -70250"/>
              <a:gd name="adj2" fmla="val 8864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ment results are shown for each diagnostic category and overall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7840" y="706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57E-74A3-4A4E-887F-9F59B549E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46240" y="1538280"/>
            <a:ext cx="6962760" cy="4572000"/>
          </a:xfrm>
          <a:prstGeom prst="rect">
            <a:avLst/>
          </a:prstGeom>
          <a:ln w="648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Rounded Rectangular Callout 12"/>
          <p:cNvSpPr/>
          <p:nvPr/>
        </p:nvSpPr>
        <p:spPr>
          <a:xfrm>
            <a:off x="4964040" y="3400560"/>
            <a:ext cx="1849680" cy="544320"/>
          </a:xfrm>
          <a:prstGeom prst="wedgeRoundRectCallout">
            <a:avLst>
              <a:gd name="adj1" fmla="val -132171"/>
              <a:gd name="adj2" fmla="val -32092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vering over a white dot will display specific studen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ounded Rectangular Callout 13"/>
          <p:cNvSpPr/>
          <p:nvPr/>
        </p:nvSpPr>
        <p:spPr>
          <a:xfrm>
            <a:off x="5049720" y="4282920"/>
            <a:ext cx="2597400" cy="812880"/>
          </a:xfrm>
          <a:prstGeom prst="wedgeRoundRectCallout">
            <a:avLst>
              <a:gd name="adj1" fmla="val -113282"/>
              <a:gd name="adj2" fmla="val -7609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a student will highlight the student skill level for each diagnostic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7840" y="5760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74720"/>
            <a:ext cx="7939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C2D-1803-4290-A035-56BF824E2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1547" t="0" r="11574" b="0"/>
          <a:stretch/>
        </p:blipFill>
        <p:spPr>
          <a:xfrm>
            <a:off x="1509840" y="2023920"/>
            <a:ext cx="6394320" cy="429768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3" descr=""/>
          <p:cNvPicPr/>
          <p:nvPr/>
        </p:nvPicPr>
        <p:blipFill>
          <a:blip r:embed="rId2"/>
          <a:srcRect l="2200" t="0" r="11786" b="0"/>
          <a:stretch/>
        </p:blipFill>
        <p:spPr>
          <a:xfrm>
            <a:off x="692280" y="4143240"/>
            <a:ext cx="2700360" cy="201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5" name="Rounded Rectangular Callout 10"/>
          <p:cNvSpPr/>
          <p:nvPr/>
        </p:nvSpPr>
        <p:spPr>
          <a:xfrm>
            <a:off x="3660840" y="3192480"/>
            <a:ext cx="2577960" cy="762120"/>
          </a:xfrm>
          <a:prstGeom prst="wedgeRoundRectCallout">
            <a:avLst>
              <a:gd name="adj1" fmla="val 33222"/>
              <a:gd name="adj2" fmla="val 129111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on an eligible content link once a student or group of students have been selected to display aligned materials and resources in 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7840" y="706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3D6-2573-4E24-9D6F-B59BE4175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57240" y="1649520"/>
            <a:ext cx="7415280" cy="457200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0" name="Rounded Rectangular Callout 12"/>
          <p:cNvSpPr/>
          <p:nvPr/>
        </p:nvSpPr>
        <p:spPr>
          <a:xfrm>
            <a:off x="5137200" y="1590840"/>
            <a:ext cx="2952720" cy="853920"/>
          </a:xfrm>
          <a:prstGeom prst="wedgeRoundRectCallout">
            <a:avLst>
              <a:gd name="adj1" fmla="val -124976"/>
              <a:gd name="adj2" fmla="val 40101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one of the diagnostic categories, will display the three most recent assessment events for a group of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ounded Rectangular Callout 13"/>
          <p:cNvSpPr/>
          <p:nvPr/>
        </p:nvSpPr>
        <p:spPr>
          <a:xfrm>
            <a:off x="1514520" y="2685960"/>
            <a:ext cx="1760400" cy="1252800"/>
          </a:xfrm>
          <a:prstGeom prst="wedgeRoundRectCallout">
            <a:avLst>
              <a:gd name="adj1" fmla="val 91236"/>
              <a:gd name="adj2" fmla="val 52537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ing a group of students and clicking on Show Eligible Content, will display aligned Materials and Resources available on 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Group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A39-0FE7-4C35-913E-77239E8D1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152360" y="1600200"/>
            <a:ext cx="683928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ounded Rectangular Callout 6"/>
          <p:cNvSpPr/>
          <p:nvPr/>
        </p:nvSpPr>
        <p:spPr>
          <a:xfrm>
            <a:off x="4722840" y="1574640"/>
            <a:ext cx="2392200" cy="887400"/>
          </a:xfrm>
          <a:prstGeom prst="wedgeRoundRectCallout">
            <a:avLst>
              <a:gd name="adj1" fmla="val -142777"/>
              <a:gd name="adj2" fmla="val -2726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ing on the Individual Map, after selecting a student within the Group Map, allows educators to display a student’s diagnostic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ounded Rectangular Callout 7"/>
          <p:cNvSpPr/>
          <p:nvPr/>
        </p:nvSpPr>
        <p:spPr>
          <a:xfrm>
            <a:off x="5033880" y="3527280"/>
            <a:ext cx="1959120" cy="722520"/>
          </a:xfrm>
          <a:prstGeom prst="wedgeRoundRectCallout">
            <a:avLst>
              <a:gd name="adj1" fmla="val -94925"/>
              <a:gd name="adj2" fmla="val -31254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lect a student to view that student’s results across all diagnostic catego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Individual Diagnostic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121-ADF8-40A2-9B9F-F199823AA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7191360" cy="4525920"/>
          </a:xfrm>
          <a:prstGeom prst="rect">
            <a:avLst/>
          </a:prstGeom>
          <a:ln w="9360">
            <a:solidFill>
              <a:srgbClr val="002060">
                <a:alpha val="88000"/>
              </a:srgbClr>
            </a:solidFill>
            <a:miter/>
          </a:ln>
        </p:spPr>
      </p:pic>
      <p:sp>
        <p:nvSpPr>
          <p:cNvPr id="182" name="Rounded Rectangular Callout 6"/>
          <p:cNvSpPr/>
          <p:nvPr/>
        </p:nvSpPr>
        <p:spPr>
          <a:xfrm>
            <a:off x="5538960" y="3173400"/>
            <a:ext cx="2412720" cy="1116000"/>
          </a:xfrm>
          <a:prstGeom prst="wedgeRoundRectCallout">
            <a:avLst>
              <a:gd name="adj1" fmla="val -86495"/>
              <a:gd name="adj2" fmla="val 6328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Individual Map displays only the student’s three most recent assessments. The vertical lines indicate the standard error for each sc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ular Callout 7"/>
          <p:cNvSpPr/>
          <p:nvPr/>
        </p:nvSpPr>
        <p:spPr>
          <a:xfrm>
            <a:off x="5510160" y="4484520"/>
            <a:ext cx="2413080" cy="884520"/>
          </a:xfrm>
          <a:prstGeom prst="wedgeRoundRectCallout">
            <a:avLst>
              <a:gd name="adj1" fmla="val -93578"/>
              <a:gd name="adj2" fmla="val 69490"/>
              <a:gd name="adj3" fmla="val 16667"/>
            </a:avLst>
          </a:prstGeom>
          <a:solidFill>
            <a:srgbClr val="b9cde5">
              <a:alpha val="70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legend at the bottom of the map shows the date for each of the three most recent assess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rpose of this presentation is to provide general information about the Classroom Diagnostic Tools (CDT).  This presentation also contains screenshots of the CDT Interactive Repor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9D9-4C34-4827-89F8-CA66D9A9C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873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CDT reports, including the Learning Progression Maps, are important because they provid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1404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concerning what the student(s) should know and be able to do at a given grade/course as represented by the Assessment Anchors and Eligible Content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view of the pathway or how learning may take place within a diagnostic category; this information may  suggest a “trend” show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ere a student is still struggling with a foundational skill/concept introduced at an earlier point in the progression 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ere a student is extending beyond what he or she is expected to know and be able to do at a given grade/course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portunities for targeted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6170-BEC0-4A5D-A036-39E3059BE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65700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28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5600" y="2037960"/>
            <a:ext cx="8663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for Stud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ecific and timely feedback designed to support student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s efficacy by bringing students into the process of their own lear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s goal-setting by involving students in the learning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tudents with opportunities to demonstrate their knowledge and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s partnering with teachers (e.g., one-on-one conferenc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s that follow-up instruction is meaningful and aligns with student learn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E4E-2F03-4315-8C68-AA2F908B5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6951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40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9640" y="188424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 for Teacher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 teaching and collaboration with students, parents/guardians, and ot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immediate access to diagnostic reports about student strengths and areas of n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 teacher understanding of student strengths and areas of need throughout the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s monitoring of student achievement to guide ongoing planning and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des individual as well as flexible grouping of students to target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immediate access to SAS resources to support whole and small group and individual i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opportunities for teachers to reflect, collaborate, and match instruction to student n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Rather than another mechanism of reporting information about student performance, the CDT is an integral part of the constructive process involving teaching and learn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1C2-8D2E-4C06-BD44-3DBD3B56E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Why should the Classroom Diagnostic Tools be used? </a:t>
            </a:r>
            <a:br>
              <a:rPr sz="40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9640" y="1884240"/>
            <a:ext cx="8583480" cy="45100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txBody>
          <a:bodyPr anchor="t">
            <a:normAutofit/>
          </a:bodyPr>
          <a:p>
            <a:pPr lvl="1"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nefits for Parents/Guardians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motes collaboration with students, teachers, and oth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motes conversation and understanding regarding student strengths and areas of need throughout the yea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s the opportunity to view and understand their student’s achievement in a visual represent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s access to information linked to SAS resources to support their student’s learning  at ho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s the partnership among the student, teacher, and parents/guardia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5057-E0F9-4BFA-8DAF-9ABFE5E5D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084-0E99-4A68-BFFF-7ABB12BB3D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5904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o are the target students/groups? </a:t>
            </a:r>
            <a:br>
              <a:rPr sz="6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9640" y="1856880"/>
            <a:ext cx="8583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enter our classes with many skills, abilities, and competencies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lly, it is highly recommended that all students be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esults, the target students/groups might differ each tim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s with wide achievement gaps should utilize the tool more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5678-CC1A-4CBD-92CE-3A3099BF9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800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How often should the Classroom Diagnostic Tools be administered?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4040" y="2104920"/>
            <a:ext cx="858384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about student strengths and areas of need over time enables teachers to plan student instruction and provide appropriate follow-up activities to meet ongoing learning expec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DT could be administered to students three to five times per school year based on student needs and analysis of da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ximum number of administrations is five per CDT per school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eeks between each administration is recommen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068-0179-43B5-9524-113385636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DT Core Tea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3814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4F3-1773-48A0-B77D-D35EC3FFA1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CEAD-CAA6-406D-B19E-8B1071A97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58840" y="1324080"/>
            <a:ext cx="3862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en Muir – Harrisburg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bbie Pfingstler, Ed.D.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Intermediate Unit # 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McGrane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zerne Intermediate Unit #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ie Wayne – Pennsylvania Department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Mierzejewski, Ed.D. – Berks County Intermediate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ne Funsten – King of Prussia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leen St. John – Pittsburgh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g Llewellyn – King of Prussia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y Ficca – Harrisburg PaT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305240" y="1065240"/>
            <a:ext cx="4838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y Emeigh -  Colonial Intermediate Unit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lene Schechter – Pittsburgh PaTT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m Kastner – Harrisburg PaT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 Hardy – Pennsylvania Department of Edu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ty McDivitt – Data Recognition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ch Maraschiello, Ph.D. – Pennsylvania Department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undra Sand – Data Recognition Corpo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 Novakovich – Pennsylvania Department of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63680" y="1542960"/>
            <a:ext cx="8229600" cy="495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012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CDT and S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B9E-EBF7-46D8-829D-325D96AAE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studentAchievement1.jpg"/>
          <p:cNvPicPr/>
          <p:nvPr/>
        </p:nvPicPr>
        <p:blipFill>
          <a:blip r:embed="rId1"/>
          <a:stretch/>
        </p:blipFill>
        <p:spPr>
          <a:xfrm>
            <a:off x="2602080" y="2027160"/>
            <a:ext cx="3976560" cy="429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jmratka\Desktop\PDE SAS\SAS-logo.png"/>
          <p:cNvPicPr/>
          <p:nvPr/>
        </p:nvPicPr>
        <p:blipFill>
          <a:blip r:embed="rId2"/>
          <a:stretch/>
        </p:blipFill>
        <p:spPr>
          <a:xfrm>
            <a:off x="554040" y="1776240"/>
            <a:ext cx="1635120" cy="365400"/>
          </a:xfrm>
          <a:prstGeom prst="rect">
            <a:avLst/>
          </a:prstGeom>
          <a:ln w="0">
            <a:noFill/>
          </a:ln>
        </p:spPr>
      </p:pic>
      <p:sp>
        <p:nvSpPr>
          <p:cNvPr id="7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3"/>
          <p:cNvSpPr/>
          <p:nvPr/>
        </p:nvSpPr>
        <p:spPr>
          <a:xfrm>
            <a:off x="4037040" y="3051000"/>
            <a:ext cx="749160" cy="5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3514680" y="4049640"/>
            <a:ext cx="1793880" cy="28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milarities and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ween Benchmark Assessments and Diagnostic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707A-FD22-4F6D-A4F3-466D19290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7400" y="1209600"/>
            <a:ext cx="8006040" cy="5518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1449360" y="123516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Bench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286240" y="121932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2733840" y="1800360"/>
            <a:ext cx="1276200" cy="231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rade-level specif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1817640" y="2173320"/>
            <a:ext cx="1467000" cy="5054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sures content at the reporting category level for reading and ma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1058760" y="3254400"/>
            <a:ext cx="160992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udents do not receive direct, formative feedbac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79520" y="4084560"/>
            <a:ext cx="743040" cy="2311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ass too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6051600" y="2835360"/>
            <a:ext cx="14479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vides current level of perform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6537240" y="3230640"/>
            <a:ext cx="155268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dentifies areas of strengths and needs across grade levels and subject are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307200" y="3749760"/>
            <a:ext cx="1146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dividual/small group measurement too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3716280" y="2481120"/>
            <a:ext cx="77328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need to be us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4548240" y="2589120"/>
            <a:ext cx="99684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 be given no more than 5 times a ye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308400" y="3265560"/>
            <a:ext cx="86040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forms instructional proce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927680" y="3146400"/>
            <a:ext cx="79848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ces us to ask more ques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3852720" y="4691160"/>
            <a:ext cx="167652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may be used to establish student goal set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4179960" y="2125800"/>
            <a:ext cx="81900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ults support goal-set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6472080" y="4160880"/>
            <a:ext cx="129564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t lessons to support eligible content for strengths and areas of need are available on S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5508720" y="1803240"/>
            <a:ext cx="107640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agnosis of  student strengths and areas of need at instructional lev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4"/>
          <p:cNvSpPr/>
          <p:nvPr/>
        </p:nvSpPr>
        <p:spPr>
          <a:xfrm>
            <a:off x="4129200" y="5132520"/>
            <a:ext cx="100008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ministered throughout the school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3456000" y="3753000"/>
            <a:ext cx="2206440" cy="580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cess of regularly collecting, summarizing, and analyzing information to guide development, implementation, and evaluation of in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ate Placeholder 2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1025640" y="3735360"/>
            <a:ext cx="1706400" cy="246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swers the question, What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8"/>
          <p:cNvSpPr/>
          <p:nvPr/>
        </p:nvSpPr>
        <p:spPr>
          <a:xfrm>
            <a:off x="6627960" y="2303640"/>
            <a:ext cx="98712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wers the questions, What?, Why?, and H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0"/>
          <p:cNvSpPr/>
          <p:nvPr/>
        </p:nvSpPr>
        <p:spPr>
          <a:xfrm>
            <a:off x="3316320" y="5673600"/>
            <a:ext cx="73656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repo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5977080" y="4889520"/>
            <a:ext cx="18158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uter-adaptive tool based on a vertical scale that spans content from grades 3 to high school/cour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33"/>
          <p:cNvSpPr/>
          <p:nvPr/>
        </p:nvSpPr>
        <p:spPr>
          <a:xfrm>
            <a:off x="1531800" y="5005440"/>
            <a:ext cx="1854360" cy="55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xed form -- everyone takes the same assessment at a given grade leve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4"/>
          <p:cNvSpPr/>
          <p:nvPr/>
        </p:nvSpPr>
        <p:spPr>
          <a:xfrm>
            <a:off x="4251240" y="3182760"/>
            <a:ext cx="558720" cy="459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vide effective feed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6"/>
          <p:cNvSpPr/>
          <p:nvPr/>
        </p:nvSpPr>
        <p:spPr>
          <a:xfrm>
            <a:off x="1176480" y="2754360"/>
            <a:ext cx="155556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 a standards-aligned bench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1068480" y="4405320"/>
            <a:ext cx="1733400" cy="550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 an estimate of student performance on a summativ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8"/>
          <p:cNvSpPr/>
          <p:nvPr/>
        </p:nvSpPr>
        <p:spPr>
          <a:xfrm>
            <a:off x="3668760" y="4275000"/>
            <a:ext cx="182880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may be tested on material not formerly tau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95440" y="5600880"/>
            <a:ext cx="895320" cy="398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p measur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42"/>
          <p:cNvSpPr/>
          <p:nvPr/>
        </p:nvSpPr>
        <p:spPr>
          <a:xfrm>
            <a:off x="3467160" y="2862360"/>
            <a:ext cx="736560" cy="337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are with par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5410080" y="5438880"/>
            <a:ext cx="149544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Supports differentiated instruction within RtII T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ff0000"/>
                </a:solidFill>
                <a:latin typeface="Times New Roman"/>
              </a:rPr>
              <a:t>1 , 2 and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Calibri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are the Classroom Diagnostic Tool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ennsylvania Classroom Diagnostic Tools (CDT) is a set of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nline tool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ed to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e diagnostic informa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guide instruc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e support to students and teacher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se tools (available at no cost to districts) are fully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and aligned with the  Standards Aligned System (SAS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will assist educators in identifying students’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cademic strengths and areas of ne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viding  link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lassroom resour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3CD-A956-480E-BA41-E370FC30E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9640" y="187632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3920" indent="-85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D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ed to students in grades 6 through high scho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ailable for use in the classroom throughout the school year on a  voluntary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content assessed by the Keystone Exams and the Pennsylvania System of School Assessment (PSS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ised of multiple-choice i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as an online Computer Adaptive Test (CAT), ensuring valid and reliable measures of a student’s skills while minimizing testing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3920" indent="-85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to provide real-time results for students and teachers with links to Materials and Resources in 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E7E5-D6FE-47B5-9B4E-1DC24A58D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CDT Overview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9640" y="1828800"/>
            <a:ext cx="85834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Pennsylvania educators involved in the  development of the Classroom Diagnostic Tool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velopment of the Classroom Diagnostic Tools involved committees of Pennsylvania educators who were convene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alignment of the items to Assessment Anchors and Eligible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e all questions included in the CD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e all units and lesson plans aligned to the Assessment Anchors and Eligible Content linked to the CDT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82DF-B1B8-431D-A988-963DB79A1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Learning Prog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Learning Progres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earning Progression shows the developmental sequences or building blocks of content/skills students need to master as they progress toward career and college readi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essions are tied directly to the Assessment Anchors and Eligibl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lso tied directly to the Voluntary Model Curriculum  (VMC) Units and Lesson Plans and are posted on the SAS Webs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15F9-6969-4BF7-B4F5-79461F89D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2:55:35Z</dcterms:created>
  <dc:creator>jchichi</dc:creator>
  <dc:description/>
  <dc:language>en-US</dc:language>
  <cp:lastModifiedBy>daphnesnook</cp:lastModifiedBy>
  <dcterms:modified xsi:type="dcterms:W3CDTF">2011-05-26T18:10:57Z</dcterms:modified>
  <cp:revision>4550</cp:revision>
  <dc:subject/>
  <dc:title>PowerPoint Presentation</dc:title>
</cp:coreProperties>
</file>